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9681-524F-44BE-8BF4-E3C17D35F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E366-0F3E-4428-8F6A-C3CC8C21C9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0A19-4A26-401C-A24C-AFDDC6BC0B8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01AF-CAB8-4796-83F9-B0324C7D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39F-87D9-4B20-B96E-35CC017A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685-DDD4-478A-9BAC-D6ECE3ED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C70-13EA-498B-A35A-EDC0EA4B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49FD-158F-4DDE-B4E9-BD308910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4B91-F45C-4BFF-BF42-BE0DBA6F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DF69-EB96-4F75-A967-63799153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1A73-7825-4AC7-818E-451891AF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B3F9-4D07-4A49-A4D9-49EFE3F2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D015-A93F-4819-8332-D8A343F2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C94D-CB37-43BD-B051-CA2799BD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4621-6B8F-4A82-9AD4-7358CC9F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58F7-E873-40EC-8DA1-465A182E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B05F-9C8D-4C9D-B804-67716EE5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4047-ECCF-4D2E-8AB5-C2C60374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0D1C-CFBF-4646-BC24-D19DF909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B329-D479-4E4C-ACB3-4F1E89ED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631F3-6095-4E6C-A754-8DDFD580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ACEDD-8FCB-4AB9-9E55-CFF17D5E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3A930-B85A-4644-8578-826822B6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9D4BE-A4F8-4426-AB64-5E9AF399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B6C21-8847-417E-997C-401B58D2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D45C-F6F7-42BE-9893-02022F23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CD61A-2828-4D95-95CA-596EE55D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4573A-F9C9-4B59-8681-BB8DB192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A2EC7-A44E-4A07-A37B-9703E905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481FF-919C-474D-84FC-179A0E7E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00A77-FBF7-4634-8697-59956FB8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6BA27-EADC-4FF7-818D-276A5592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2E844-0494-476E-8353-6AD3D306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A1778-6A2A-4FB7-9C2D-8EE9243B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4B18C-D7C4-4DFF-987B-6ECE4A57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F9811-55F3-4A53-AE82-3F524DE2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A7A3-FEE5-4A2A-B0C9-B2D3BC63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B07DE-3823-4862-9CAD-59AA0942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2D9C5-CF02-41D9-9DD0-83A76F57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2630F-2FB9-410E-8AA7-F83BAA1E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1FECF-6EE1-45B4-B29A-0516780D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487D3-4D37-41B7-8181-0E84E1A4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FC1F5-82B3-4815-BEC9-5A1B0F4F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F0978-8026-409E-A22F-9D5DD81B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115FD-4C04-438E-9146-F5C2ED6B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9D629-5557-4372-BE2D-520AE934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8CF8A-86AD-4A6D-A9A7-A8FC5839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366E-D5EC-4939-BAE6-7C950034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F932F-81DE-4E4B-8AD1-7823645C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D8BB9-32BC-4E49-BF77-596F1B2A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8A838-829B-4C57-80C3-00730EE5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9B137-B43A-48D7-BAF5-7EB96C9E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64BC4-20A4-442A-B781-09FA0553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2EC5D-16B1-41F4-91AA-762C9B75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E75FF-A303-47C7-A764-B986ABFC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9E48B-9A4F-4297-A592-A04CDD0E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07AB5-9AE6-4616-8B50-4BA7865A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086DA-5F54-4981-BC71-8D58199C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1C6-EB38-47C0-ACF5-02588A9E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BFD0F-F321-4E06-B215-3A85903D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646D5-86D8-48FB-958E-407960C7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C263C-123F-485C-9966-90B14C68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B9CC6-0E63-4A5E-9E65-36204480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E5895-66EE-4072-B264-9AD33CB4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3AF9C-2E74-4AAC-966B-F26231E5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2CDA9-34E0-45CD-9754-73DE2385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79C8D-B069-4459-8FC9-92ADA182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329DD-8964-4F15-8A4B-33CEBFA6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AC4AC-5CE3-4EDC-9229-2289484B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CF5D-C314-44AE-8705-917E4B68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20710-BEF0-45B8-A9B9-7559792C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01AEA-41A1-47C5-98F6-EED1BD64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8CE9D-9E0B-45C6-BBAE-7D498F75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D8389-0EDF-48B6-823E-F58D62BD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DCF37-C598-4BD1-A3DE-B44DB1A7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3FB01-F5B8-4098-808C-31BB53A5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854B5-DDD9-4E7F-8610-E75B38A1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AC933-901A-46E4-A0D6-1F75ACEA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78B6A-5E41-4B6B-ADCB-9D6A53D9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768FC-B39A-4F85-BB22-A52A8F76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3A3-51A0-4157-BA33-568E66FC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1B433-9AE7-4401-A5C1-CA4BF6D5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899B9-6CCD-4423-A71B-97CC75DF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69481-63A0-435B-BD35-DBEB25BF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D2A1A-E81F-46EC-818F-2BFECE81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0D4A7-0CD5-41AE-986D-1C8FC05C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2CF-F019-4CD5-979D-854ECA5C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5E97-ECEB-47F8-A951-C714C1C87603}" type="slidenum">
              <a:rPr b="0" lang="en-US" sz="12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8D54-386B-490B-90B2-16DF1DC26212}" type="slidenum">
              <a:rPr b="0" lang="en-US" sz="12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F4B8-28FB-4EAF-8E0E-129E6C94A029}" type="slidenum">
              <a:rPr b="0" lang="en-US" sz="12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744D-C25C-4C13-A408-6966A50A1043}" type="slidenum">
              <a:rPr b="0" lang="en-US" sz="12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8197-0C20-4B9B-B138-8887C68EA65D}" type="slidenum">
              <a:rPr b="0" lang="en-US" sz="12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549E-18D4-4E01-B632-93D41EF225BA}" type="slidenum">
              <a:rPr b="0" lang="en-US" sz="12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1E65-127A-424B-91F4-D4F06F50271F}" type="slidenum">
              <a:rPr b="0" lang="en-US" sz="12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rowmax.com/overhand.ht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e0ec"/>
                </a:solidFill>
                <a:latin typeface="Consolas"/>
              </a:rPr>
              <a:t>overhand</a:t>
            </a:r>
            <a:br>
              <a:rPr sz="3600"/>
            </a:br>
            <a:r>
              <a:rPr b="0" lang="en-US" sz="3600" spc="-1" strike="noStrike">
                <a:solidFill>
                  <a:srgbClr val="fae0ec"/>
                </a:solidFill>
                <a:latin typeface="Consolas"/>
              </a:rPr>
              <a:t>softball throw</a:t>
            </a:r>
            <a:endParaRPr b="0" lang="en-US" sz="36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laina Lars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3" descr="throw graphic.jpg"/>
          <p:cNvPicPr/>
          <p:nvPr/>
        </p:nvPicPr>
        <p:blipFill>
          <a:blip r:embed="rId1"/>
          <a:stretch/>
        </p:blipFill>
        <p:spPr>
          <a:xfrm>
            <a:off x="2895480" y="3124080"/>
            <a:ext cx="3337200" cy="2086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Advanced thrower.jpg"/>
          <p:cNvPicPr/>
          <p:nvPr/>
        </p:nvPicPr>
        <p:blipFill>
          <a:blip r:embed="rId2"/>
          <a:stretch/>
        </p:blipFill>
        <p:spPr>
          <a:xfrm>
            <a:off x="2666880" y="2743200"/>
            <a:ext cx="3886200" cy="3860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Jamie Age 12 years old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401" name="Content Placeholder 3" descr="Jamie.JPG"/>
          <p:cNvPicPr/>
          <p:nvPr/>
        </p:nvPicPr>
        <p:blipFill>
          <a:blip r:embed="rId1"/>
          <a:stretch/>
        </p:blipFill>
        <p:spPr>
          <a:xfrm>
            <a:off x="1752480" y="1784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Intermediate Overhand Throw Frame by Frame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403" name="Content Placeholder 3" descr="overhand throw fram by frame 001.jpg"/>
          <p:cNvPicPr/>
          <p:nvPr/>
        </p:nvPicPr>
        <p:blipFill>
          <a:blip r:embed="rId1"/>
          <a:stretch/>
        </p:blipFill>
        <p:spPr>
          <a:xfrm>
            <a:off x="533520" y="2057400"/>
            <a:ext cx="1766880" cy="228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overhand throw fram by frame 002.jpg"/>
          <p:cNvPicPr/>
          <p:nvPr/>
        </p:nvPicPr>
        <p:blipFill>
          <a:blip r:embed="rId2"/>
          <a:stretch/>
        </p:blipFill>
        <p:spPr>
          <a:xfrm>
            <a:off x="1066680" y="1981080"/>
            <a:ext cx="3768840" cy="2590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overhand throw fram by frame 003.jpg"/>
          <p:cNvPicPr/>
          <p:nvPr/>
        </p:nvPicPr>
        <p:blipFill>
          <a:blip r:embed="rId3"/>
          <a:stretch/>
        </p:blipFill>
        <p:spPr>
          <a:xfrm>
            <a:off x="4114800" y="1981080"/>
            <a:ext cx="1981080" cy="2563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overhand throw fram by frame 004.jpg"/>
          <p:cNvPicPr/>
          <p:nvPr/>
        </p:nvPicPr>
        <p:blipFill>
          <a:blip r:embed="rId4"/>
          <a:stretch/>
        </p:blipFill>
        <p:spPr>
          <a:xfrm>
            <a:off x="6019920" y="1905120"/>
            <a:ext cx="2438280" cy="3155760"/>
          </a:xfrm>
          <a:prstGeom prst="rect">
            <a:avLst/>
          </a:prstGeom>
          <a:ln w="0">
            <a:noFill/>
          </a:ln>
        </p:spPr>
      </p:pic>
      <p:sp>
        <p:nvSpPr>
          <p:cNvPr id="407" name="TextBox 7"/>
          <p:cNvSpPr/>
          <p:nvPr/>
        </p:nvSpPr>
        <p:spPr>
          <a:xfrm>
            <a:off x="533520" y="53341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m too low 2) Opens up way too much &amp; too early 3)Elbow is leading                4) Arm extends to early 5) Glove drops 6) Arms crosses on follow th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Jessica Age 13 years old 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409" name="Content Placeholder 3" descr="Jessica.JPG"/>
          <p:cNvPicPr/>
          <p:nvPr/>
        </p:nvPicPr>
        <p:blipFill>
          <a:blip r:embed="rId1"/>
          <a:stretch/>
        </p:blipFill>
        <p:spPr>
          <a:xfrm>
            <a:off x="1752480" y="1784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Advanced 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luent with their motion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Keep elbow up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all pointed behind for the perfect high fiv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You can see “L” shape perfectl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step, rotate, release and follow through is down by your kne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metimes only a short step is not needed due to upper body strengt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Picture 3" descr="advanced thrower 3.jpg"/>
          <p:cNvPicPr/>
          <p:nvPr/>
        </p:nvPicPr>
        <p:blipFill>
          <a:blip r:embed="rId1"/>
          <a:stretch/>
        </p:blipFill>
        <p:spPr>
          <a:xfrm>
            <a:off x="5334120" y="5257800"/>
            <a:ext cx="96336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Alaina Age 22 years old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414" name="Content Placeholder 3" descr="Alaina.JPG"/>
          <p:cNvPicPr/>
          <p:nvPr/>
        </p:nvPicPr>
        <p:blipFill>
          <a:blip r:embed="rId1"/>
          <a:stretch/>
        </p:blipFill>
        <p:spPr>
          <a:xfrm>
            <a:off x="1752480" y="1784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Differences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eginner has no “L” sha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eginner has no step or step with wrong foo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eginner keeps elbow low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termediate hesitates when getting to “L” sha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termediate  might shorten up follow through (see following slide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vanced has very fluent motio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vanced is accurate and consist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Follow through levels 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418" name="Content Placeholder 3" descr="untitled.bmp"/>
          <p:cNvPicPr/>
          <p:nvPr/>
        </p:nvPicPr>
        <p:blipFill>
          <a:blip r:embed="rId1"/>
          <a:stretch/>
        </p:blipFill>
        <p:spPr>
          <a:xfrm>
            <a:off x="4094280" y="2955960"/>
            <a:ext cx="1412640" cy="22287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beggner follow through.jpg"/>
          <p:cNvPicPr/>
          <p:nvPr/>
        </p:nvPicPr>
        <p:blipFill>
          <a:blip r:embed="rId2"/>
          <a:stretch/>
        </p:blipFill>
        <p:spPr>
          <a:xfrm>
            <a:off x="380880" y="1752480"/>
            <a:ext cx="3025800" cy="2133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http://t0.gstatic.com/images?q=tbn:8dAAIH17zJpBEM:http://i.ehow.com/images/ehows/steps/screwball7_L.jpg"/>
          <p:cNvPicPr/>
          <p:nvPr/>
        </p:nvPicPr>
        <p:blipFill>
          <a:blip r:embed="rId3"/>
          <a:stretch/>
        </p:blipFill>
        <p:spPr>
          <a:xfrm>
            <a:off x="5778360" y="1981080"/>
            <a:ext cx="31896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Similarities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vanced and Intermediate has “L” sha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vanced and Intermediate has a ste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vanced and Intermediate keeps elbow hig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vanced, Intermediate and Beginner in “T” shape with ar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vanced finishes follow through (see previous slid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Stages of Performance and Learning</a:t>
            </a:r>
            <a:br>
              <a:rPr sz="4000"/>
            </a:b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arly Learning – the overhand throw is inaccurate, inconsistent, inefficient, and stiff-looking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termediate Learning – the overhand throw is more accurate, more consistent, more efficient, and more relax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ter Learning - the overhand throw is accurate, consistent, efficient, and automatic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References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20400" indent="-2671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owney, Greg (2009, February 1). Throwing Like a Girl’s Brain,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Neuroanthropology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. http://neuroanthropology.net/2009/02/01/throwing-like-a-girls-brain/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20400" indent="-2671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raun, Kokmeyer, , and Millett (2009). Shoulder Injuries in the Throwing Athlete,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The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 Journal of Bone and Jo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in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t Surgery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91:966-978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20400" indent="-2671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Zawrotny, Steve (January 2008). 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Overload / Underload Training: How It Works &amp; Why Ball Players Should Use This Training Method, SiftedArticles.com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20400" indent="-2671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2040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2040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Serial Skill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rowing is a serial skil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Your upper and lower body is working against each other, to work together to make one mo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Your upper body is rotating and going backwards while your lower body is moving forwar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n your lower and upper body come together giving power to the targe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434340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Overhand Throwing Video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09320" y="274320"/>
            <a:ext cx="44960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Ten Steps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282680"/>
            <a:ext cx="777240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There are ten steps for throwing a softbal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First you need to find the grip. Its mostly used using three fingers. But if your hand is big enough you can use two and place your thumb under bal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Your front foot should be at least at 45 degree angle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Thumbs apart and your glove should be pointing to target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Your throwing arm should be up and in an a “L” shape. Your hand should be like your giving someone a high five behind you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Step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Twist and rotate with upper body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ull glove hand into chest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Keep “L” shape with throwing arm and bring it forward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Release and snap with finger tips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ull down and follow through (your back leg should take a step in front of you)       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4" descr="cartoon softball throw.jpg"/>
          <p:cNvPicPr/>
          <p:nvPr/>
        </p:nvPicPr>
        <p:blipFill>
          <a:blip r:embed="rId1"/>
          <a:stretch/>
        </p:blipFill>
        <p:spPr>
          <a:xfrm>
            <a:off x="3352680" y="5791320"/>
            <a:ext cx="68580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The Grip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385" name="Content Placeholder 3" descr="softball grip.jpg"/>
          <p:cNvPicPr/>
          <p:nvPr/>
        </p:nvPicPr>
        <p:blipFill>
          <a:blip r:embed="rId1"/>
          <a:stretch/>
        </p:blipFill>
        <p:spPr>
          <a:xfrm>
            <a:off x="1371600" y="17845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ues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ands togethe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eet apart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oint glov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igh five behind you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tep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ul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Rotat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Releas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llow throug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Corbel"/>
                <a:hlinkClick r:id="rId1"/>
              </a:rPr>
              <a:t>http://www.throwmax.com/overhand.htm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Throwing levels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389" name="Content Placeholder 3" descr="Begginer thrower.jpg"/>
          <p:cNvPicPr/>
          <p:nvPr/>
        </p:nvPicPr>
        <p:blipFill>
          <a:blip r:embed="rId1"/>
          <a:stretch/>
        </p:blipFill>
        <p:spPr>
          <a:xfrm>
            <a:off x="685800" y="1523880"/>
            <a:ext cx="2666880" cy="19814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intermdiate thrower.jpg"/>
          <p:cNvPicPr/>
          <p:nvPr/>
        </p:nvPicPr>
        <p:blipFill>
          <a:blip r:embed="rId2"/>
          <a:stretch/>
        </p:blipFill>
        <p:spPr>
          <a:xfrm>
            <a:off x="3581280" y="1523880"/>
            <a:ext cx="1414440" cy="2438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Advanced thrower.jpg"/>
          <p:cNvPicPr/>
          <p:nvPr/>
        </p:nvPicPr>
        <p:blipFill>
          <a:blip r:embed="rId3"/>
          <a:stretch/>
        </p:blipFill>
        <p:spPr>
          <a:xfrm>
            <a:off x="5334120" y="1371600"/>
            <a:ext cx="329868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Beginner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akes a long time to get ball out of glove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Keeps elbow very low (below shoulder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ver gets fully extended with ar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o “L” shap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o step or steps with the wrong foo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o follow throug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Gets very distracted with things going on aroun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eds to be in a closed environment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4" name="Picture 3" descr="throw graphic.jpg"/>
          <p:cNvPicPr/>
          <p:nvPr/>
        </p:nvPicPr>
        <p:blipFill>
          <a:blip r:embed="rId1"/>
          <a:stretch/>
        </p:blipFill>
        <p:spPr>
          <a:xfrm>
            <a:off x="3352680" y="5257800"/>
            <a:ext cx="18288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Maddy Age 20 Months</a:t>
            </a:r>
            <a:br>
              <a:rPr sz="4000"/>
            </a:b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396" name="Content Placeholder 3" descr="Maddy.JPG"/>
          <p:cNvPicPr/>
          <p:nvPr/>
        </p:nvPicPr>
        <p:blipFill>
          <a:blip r:embed="rId1"/>
          <a:stretch/>
        </p:blipFill>
        <p:spPr>
          <a:xfrm>
            <a:off x="1752480" y="1784520"/>
            <a:ext cx="5639040" cy="4228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Intermediate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ight hesitate when getting arm to “L” sha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ave wrist back and ball to sk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step by the lead foot is not along the throwing li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bow lead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oes not snap releas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ight shorten up follow throug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9" name="Picture 3" descr="advanced thrower 2.jpg"/>
          <p:cNvPicPr/>
          <p:nvPr/>
        </p:nvPicPr>
        <p:blipFill>
          <a:blip r:embed="rId1"/>
          <a:stretch/>
        </p:blipFill>
        <p:spPr>
          <a:xfrm>
            <a:off x="4038480" y="5486400"/>
            <a:ext cx="94788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8:15:08Z</dcterms:created>
  <dc:creator>DPS</dc:creator>
  <dc:description/>
  <dc:language>en-US</dc:language>
  <cp:lastModifiedBy>DPS</cp:lastModifiedBy>
  <dcterms:modified xsi:type="dcterms:W3CDTF">2011-04-12T04:57:15Z</dcterms:modified>
  <cp:revision>134</cp:revision>
  <dc:subject/>
  <dc:title>THROWING A Softball</dc:title>
</cp:coreProperties>
</file>